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0A4-E371-488C-95A5-57E1E6E2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40F-4B95-4B34-9B07-DFD74E28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C42-7038-4754-B746-3C343207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22B-8523-4E6F-8537-CADF24A4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21F-4BB0-4578-8E03-DD10CF9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3EB-0E24-410A-B183-20852268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6A3-6C32-4183-9A50-736CD72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BFE-D85B-4856-AD22-EEE63A8F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08F-48AB-4F8E-95AB-35B748D8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A58-6E35-420D-B8C7-5104268D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0BD-963F-4C9A-A1FE-3105BAE3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10F-44DC-4DDB-84B9-C9B75FDF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BD58-7C9D-4C4C-B3B1-0170C6CA1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asa para la Ven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971800" cy="197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106668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asa grande es muy bonita. Tinene viente cuartos. La casa es en Las Angeles, CA. La casa tiene diez dormitorios. Cuesta mucho. Cuesta $24,000,000.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4:13:04Z</dcterms:created>
  <dc:creator>wilsonaleah</dc:creator>
  <dc:description/>
  <dc:language>en-US</dc:language>
  <cp:lastModifiedBy>wilsonaleah</cp:lastModifiedBy>
  <dcterms:modified xsi:type="dcterms:W3CDTF">2012-05-22T17:21:09Z</dcterms:modified>
  <cp:revision>4</cp:revision>
  <dc:subject/>
  <dc:title>La casa para la Venta </dc:title>
</cp:coreProperties>
</file>